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BE0C9-ECD3-41FC-8F2E-6EAE780E2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26C4E-94F6-4AC8-B362-B466DD0F26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5AAFA-6F3A-4B38-85F2-B37B73233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jčešći oblik aktinomikoze je cervikofacijalni, koga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</a:rPr>
              <a:t>karakteri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zbolan tvrd otok koji je spororatući, praćen eritemom kože i trizmusom. Na koži lica, ali i gornjeg dela vrata, mogu se pojaviti apscesi i fistule, sa eksudacijom gnojnog sadžaja i pojavom specifičnih zrnaca koje su kolonije Actinomyc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apija je antibiotska ( eritromicin-10-25 mg/kg svakih 6 sati, kod dece sa telesnom masom&lt;25kg) (3), često u kombinaciji sa hirurškim lečenjem.(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F1954-0D3A-423F-AC3E-5F5A5D3FF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Benzatinpenicilin G, u dece telesne težine &lt; 27 kg, 300 000-600 000 i.j. im. jednokratno; starija deca i deca teža od 27 kg 900 000 i.j. im., dok se novorođenčadi daje 50 000 i.j./k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Eritromicin- 10-25 mg/kg svakih 6 sati, kod dece sa tjelesnom masom&lt;25kg)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efalosporini III generacije - (ceftriakson, 50-75 mg/kg/dan podeljeno u 2 doz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apija je antibiotsk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0DCC-C571-46AF-A878-100D4815A6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67D3F-509E-41E8-89F5-4B1472DD9A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AD724-B58F-4524-BC3F-454A7A6950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E22BB-2E89-4294-B6D0-659579A92E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23744-3954-41A4-BAA3-BC6FC32214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75230-6AB1-4496-B887-AFB65738B8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49E1E-DAC1-45A3-8148-A942BB4D31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77AC3-C922-4B76-9DCF-C3A07F0A91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6554D-4A98-495E-9186-579F32C0CF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2CBBE-3CF1-410B-84F3-268DA8658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89AC5-B233-4178-94B2-9FF3795E99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EA7E8-264B-409F-9E0B-C5F5519F76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348DA-D963-4BC6-A199-14B0B2B518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C7704-9947-4990-9BE7-4745CF857C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54D10-E0D8-4FC6-90F5-BD3F17B31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7A7D2-641E-41B3-9E65-455106317F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IDFont+F1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6158B-7126-464C-B2B9-B17DEC8960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61898-E4F6-47A8-96FD-DAE75A5705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D8443-FC3A-4BCA-8739-04B32EB1F7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3390C-E92A-4ABB-8807-5E7B1AF896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7283A-0D4E-4927-8CAA-4ABD3CFAC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4059B-4621-46BA-A511-6BA7A9A229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8C51B-E313-48C6-A48D-98E97AE3E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18C92-C994-4F17-AA76-5F8C7360AC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FDFF3-77CC-4046-986C-27FF411A81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im hirurškog uklanjanja koštanih sekvestara,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otrebljava se agresivna antibiotska terapija u koju se ubrajaju Klindamicin za G(+) uzročnike (na usta, deci se daje 3-6 mg/kg/dan svakih 6 sati; parenteralno &gt; 1 mesec 15-40 mg/kg/dan podeljeno u 3 ili 4 doze. U teškim infekcijama ne manje od 300 mg/dan.) i Ciprofloksacin za G(-) uzročnike (iv od 5 do 17 godina 10 mg/kg svakih 8 sati, max doza 1200 mg). (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071-1245-4410-8EAB-6426C63E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D35-2D37-4357-ABD1-D5206D6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549-808E-4F58-BE90-2E6E48C1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B71-658C-4A9B-AAC2-BB3591E1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FA4-5AF7-4EF6-B19A-50100E4C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48B-059D-447E-AFCF-E7B05AB9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8C2-5AF3-4FE2-BCA6-EB9F5087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901-0D9E-4C9D-96FE-8CE7667C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462-09CB-4674-8F8A-5BFCB93A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5D8-BFEA-4974-BBF7-46332BA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6FA-3B04-41D5-962C-6B30E02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2F9-6B23-472B-AAFA-FC13CBBF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35494-2877-49FA-B4AB-777B1FE3F2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ANTIBIOTICI I</a:t>
            </a:r>
            <a:br>
              <a:rPr sz="4800"/>
            </a:b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URGENTNA STANJA</a:t>
            </a:r>
            <a:br>
              <a:rPr sz="4800"/>
            </a:b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KOD DEC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13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KTINOMIKOZ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006560" y="1916280"/>
            <a:ext cx="1059156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Hronična, granulomatozna infektivna bolest koju izaziva Acinomyces israelii. Na koži lica, ali i gornjeg dela vrata, mogu se pojaviti apscesi i fistule, sa eksudacijom gnojnog sadžaja i pojavom specifičnih zrnaca koje su kolonije Actinomyces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4" name="Group 1"/>
          <p:cNvGrpSpPr/>
          <p:nvPr/>
        </p:nvGrpSpPr>
        <p:grpSpPr>
          <a:xfrm>
            <a:off x="2301840" y="4176720"/>
            <a:ext cx="7772400" cy="838080"/>
            <a:chOff x="2301840" y="4176720"/>
            <a:chExt cx="7772400" cy="838080"/>
          </a:xfrm>
        </p:grpSpPr>
        <p:sp>
          <p:nvSpPr>
            <p:cNvPr id="85" name="AutoShape 58"/>
            <p:cNvSpPr/>
            <p:nvPr/>
          </p:nvSpPr>
          <p:spPr>
            <a:xfrm>
              <a:off x="6721560" y="4186080"/>
              <a:ext cx="3352680" cy="82224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OD DECE &lt; 25 KG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10-25 MG/KG NA 6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AutoShape 58"/>
            <p:cNvSpPr/>
            <p:nvPr/>
          </p:nvSpPr>
          <p:spPr>
            <a:xfrm>
              <a:off x="3292200" y="4176720"/>
              <a:ext cx="3230640" cy="83808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ERITROMIC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87" name="Picture 6" descr=""/>
            <p:cNvPicPr/>
            <p:nvPr/>
          </p:nvPicPr>
          <p:blipFill>
            <a:blip r:embed="rId1"/>
            <a:stretch/>
          </p:blipFill>
          <p:spPr>
            <a:xfrm>
              <a:off x="2301840" y="425268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KONGENITALNI SIFIL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006560" y="1839960"/>
            <a:ext cx="108964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Lues je infektivno oboljenje koje se na dijete prenosi preko majke, a čiji je uzročnik bleda spiroheta (Treponema pallidum)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777960" y="5460840"/>
            <a:ext cx="7772400" cy="849600"/>
            <a:chOff x="777960" y="5460840"/>
            <a:chExt cx="7772400" cy="849600"/>
          </a:xfrm>
        </p:grpSpPr>
        <p:sp>
          <p:nvSpPr>
            <p:cNvPr id="91" name="AutoShape 58"/>
            <p:cNvSpPr/>
            <p:nvPr/>
          </p:nvSpPr>
          <p:spPr>
            <a:xfrm>
              <a:off x="5197680" y="5471640"/>
              <a:ext cx="3352680" cy="82260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50-75 MG/KG NA 12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AutoShape 58"/>
            <p:cNvSpPr/>
            <p:nvPr/>
          </p:nvSpPr>
          <p:spPr>
            <a:xfrm>
              <a:off x="1768320" y="5460840"/>
              <a:ext cx="3230640" cy="83880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CEFALOSPIRINI III 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i="1" lang="sr-Latn-RS" sz="1700" spc="-1" strike="noStrike">
                  <a:solidFill>
                    <a:srgbClr val="000000"/>
                  </a:solidFill>
                  <a:latin typeface="Trebuchet MS"/>
                </a:rPr>
                <a:t>CEFTRIAKSO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93" name="Picture 13" descr=""/>
            <p:cNvPicPr/>
            <p:nvPr/>
          </p:nvPicPr>
          <p:blipFill>
            <a:blip r:embed="rId1"/>
            <a:stretch/>
          </p:blipFill>
          <p:spPr>
            <a:xfrm>
              <a:off x="777960" y="5547960"/>
              <a:ext cx="761760" cy="76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2"/>
          <p:cNvGrpSpPr/>
          <p:nvPr/>
        </p:nvGrpSpPr>
        <p:grpSpPr>
          <a:xfrm>
            <a:off x="776160" y="4392720"/>
            <a:ext cx="7774200" cy="838080"/>
            <a:chOff x="776160" y="4392720"/>
            <a:chExt cx="7774200" cy="838080"/>
          </a:xfrm>
        </p:grpSpPr>
        <p:sp>
          <p:nvSpPr>
            <p:cNvPr id="95" name="AutoShape 58"/>
            <p:cNvSpPr/>
            <p:nvPr/>
          </p:nvSpPr>
          <p:spPr>
            <a:xfrm>
              <a:off x="5197320" y="4403520"/>
              <a:ext cx="3353040" cy="82224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OD DECE &lt; 25 KG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10-25 MG/KG NA 6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AutoShape 58"/>
            <p:cNvSpPr/>
            <p:nvPr/>
          </p:nvSpPr>
          <p:spPr>
            <a:xfrm>
              <a:off x="1768320" y="4392720"/>
              <a:ext cx="3230640" cy="83808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ERITROMIC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97" name="Picture 14" descr=""/>
            <p:cNvPicPr/>
            <p:nvPr/>
          </p:nvPicPr>
          <p:blipFill>
            <a:blip r:embed="rId2"/>
            <a:stretch/>
          </p:blipFill>
          <p:spPr>
            <a:xfrm>
              <a:off x="776160" y="440532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Group 1"/>
          <p:cNvGrpSpPr/>
          <p:nvPr/>
        </p:nvGrpSpPr>
        <p:grpSpPr>
          <a:xfrm>
            <a:off x="853920" y="3338640"/>
            <a:ext cx="11199960" cy="838080"/>
            <a:chOff x="853920" y="3338640"/>
            <a:chExt cx="11199960" cy="838080"/>
          </a:xfrm>
        </p:grpSpPr>
        <p:sp>
          <p:nvSpPr>
            <p:cNvPr id="99" name="AutoShape 58"/>
            <p:cNvSpPr/>
            <p:nvPr/>
          </p:nvSpPr>
          <p:spPr>
            <a:xfrm>
              <a:off x="5195880" y="3348000"/>
              <a:ext cx="3352680" cy="82224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OD DECE &lt; 27 KG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300.000-600.000 IJ IM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AutoShape 58"/>
            <p:cNvSpPr/>
            <p:nvPr/>
          </p:nvSpPr>
          <p:spPr>
            <a:xfrm>
              <a:off x="1766520" y="3338640"/>
              <a:ext cx="3230640" cy="83808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BENZATINPENICILIN G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AutoShape 58"/>
            <p:cNvSpPr/>
            <p:nvPr/>
          </p:nvSpPr>
          <p:spPr>
            <a:xfrm>
              <a:off x="8701200" y="3349440"/>
              <a:ext cx="3352680" cy="8222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STARIJA DEC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900.000 IJ IM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02" name="Picture 2" descr=""/>
            <p:cNvPicPr/>
            <p:nvPr/>
          </p:nvPicPr>
          <p:blipFill>
            <a:blip r:embed="rId3"/>
            <a:stretch/>
          </p:blipFill>
          <p:spPr>
            <a:xfrm>
              <a:off x="853920" y="333864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KANDIDIJAZ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006560" y="1763640"/>
            <a:ext cx="108201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Kandidijaza (soor, mlečac) je najčešća gljivična infekcija sluznice usne šupljine, čiji je uzročnik Candida albicans, koja je u fiziološkim uslovima stalni pripadnik flore usne šupljine i gornjih partija respiratornog trakt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549360" y="4862520"/>
            <a:ext cx="11642760" cy="838080"/>
            <a:chOff x="549360" y="4862520"/>
            <a:chExt cx="11642760" cy="838080"/>
          </a:xfrm>
        </p:grpSpPr>
        <p:sp>
          <p:nvSpPr>
            <p:cNvPr id="106" name="AutoShape 58"/>
            <p:cNvSpPr/>
            <p:nvPr/>
          </p:nvSpPr>
          <p:spPr>
            <a:xfrm>
              <a:off x="4054320" y="4871880"/>
              <a:ext cx="2971800" cy="82224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OD DECE &lt; 1 GODIN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2.5 ML 2 PUTA NA DA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AutoShape 58"/>
            <p:cNvSpPr/>
            <p:nvPr/>
          </p:nvSpPr>
          <p:spPr>
            <a:xfrm>
              <a:off x="1387440" y="4862520"/>
              <a:ext cx="2468520" cy="83808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MIKONAZOL GEL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AutoShape 58"/>
            <p:cNvSpPr/>
            <p:nvPr/>
          </p:nvSpPr>
          <p:spPr>
            <a:xfrm>
              <a:off x="7178760" y="4873320"/>
              <a:ext cx="2422440" cy="8222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DO 6 GODIN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5 ML 2 PUT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AutoShape 58"/>
            <p:cNvSpPr/>
            <p:nvPr/>
          </p:nvSpPr>
          <p:spPr>
            <a:xfrm>
              <a:off x="9769680" y="4871880"/>
              <a:ext cx="2422440" cy="8222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&gt; 6 GODIN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5 ML 4 PUT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10" name="Picture 12" descr=""/>
            <p:cNvPicPr/>
            <p:nvPr/>
          </p:nvPicPr>
          <p:blipFill>
            <a:blip r:embed="rId1"/>
            <a:stretch/>
          </p:blipFill>
          <p:spPr>
            <a:xfrm>
              <a:off x="549360" y="49384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"/>
          <p:cNvGrpSpPr/>
          <p:nvPr/>
        </p:nvGrpSpPr>
        <p:grpSpPr>
          <a:xfrm>
            <a:off x="549360" y="3871800"/>
            <a:ext cx="6476760" cy="838440"/>
            <a:chOff x="549360" y="3871800"/>
            <a:chExt cx="6476760" cy="838440"/>
          </a:xfrm>
        </p:grpSpPr>
        <p:sp>
          <p:nvSpPr>
            <p:cNvPr id="112" name="AutoShape 58"/>
            <p:cNvSpPr/>
            <p:nvPr/>
          </p:nvSpPr>
          <p:spPr>
            <a:xfrm>
              <a:off x="4054320" y="3881160"/>
              <a:ext cx="2971800" cy="82260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OD MALE DEC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4 PUTA DO DVE NEDELJ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AutoShape 58"/>
            <p:cNvSpPr/>
            <p:nvPr/>
          </p:nvSpPr>
          <p:spPr>
            <a:xfrm>
              <a:off x="1387440" y="3871800"/>
              <a:ext cx="2468520" cy="83844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NISTATIN RASTVOR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14" name="Picture 2" descr=""/>
            <p:cNvPicPr/>
            <p:nvPr/>
          </p:nvPicPr>
          <p:blipFill>
            <a:blip r:embed="rId2"/>
            <a:stretch/>
          </p:blipFill>
          <p:spPr>
            <a:xfrm>
              <a:off x="549360" y="3947760"/>
              <a:ext cx="60948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GRESIVNI PARODONTIT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006560" y="1738440"/>
            <a:ext cx="529596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Mehanički tretman može uključivati hirurške ali i nehirurške procedure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7" name="Group 1"/>
          <p:cNvGrpSpPr/>
          <p:nvPr/>
        </p:nvGrpSpPr>
        <p:grpSpPr>
          <a:xfrm>
            <a:off x="5883120" y="2362320"/>
            <a:ext cx="3124440" cy="3948120"/>
            <a:chOff x="5883120" y="2362320"/>
            <a:chExt cx="3124440" cy="3948120"/>
          </a:xfrm>
        </p:grpSpPr>
        <p:sp>
          <p:nvSpPr>
            <p:cNvPr id="118" name="AutoShape 58"/>
            <p:cNvSpPr/>
            <p:nvPr/>
          </p:nvSpPr>
          <p:spPr>
            <a:xfrm>
              <a:off x="5883120" y="2362320"/>
              <a:ext cx="3124440" cy="51912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TETRACIKL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AutoShape 58"/>
            <p:cNvSpPr/>
            <p:nvPr/>
          </p:nvSpPr>
          <p:spPr>
            <a:xfrm>
              <a:off x="5883120" y="4419720"/>
              <a:ext cx="3124440" cy="51912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MAKROLID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AutoShape 58"/>
            <p:cNvSpPr/>
            <p:nvPr/>
          </p:nvSpPr>
          <p:spPr>
            <a:xfrm>
              <a:off x="5883120" y="5105520"/>
              <a:ext cx="3124440" cy="51912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LINDAMIC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5883120" y="5791320"/>
              <a:ext cx="3124440" cy="51912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CIPROFLOKSAC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2" name="Group 2"/>
          <p:cNvGrpSpPr/>
          <p:nvPr/>
        </p:nvGrpSpPr>
        <p:grpSpPr>
          <a:xfrm>
            <a:off x="5883120" y="3033720"/>
            <a:ext cx="6400800" cy="1219320"/>
            <a:chOff x="5883120" y="3033720"/>
            <a:chExt cx="6400800" cy="1219320"/>
          </a:xfrm>
        </p:grpSpPr>
        <p:sp>
          <p:nvSpPr>
            <p:cNvPr id="123" name="AutoShape 58"/>
            <p:cNvSpPr/>
            <p:nvPr/>
          </p:nvSpPr>
          <p:spPr>
            <a:xfrm>
              <a:off x="5883120" y="3047760"/>
              <a:ext cx="3124080" cy="51912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AMOKSICIL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AutoShape 58"/>
            <p:cNvSpPr/>
            <p:nvPr/>
          </p:nvSpPr>
          <p:spPr>
            <a:xfrm>
              <a:off x="5883120" y="3733920"/>
              <a:ext cx="3124080" cy="51912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METRONIDAZOL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AutoShape 58"/>
            <p:cNvSpPr/>
            <p:nvPr/>
          </p:nvSpPr>
          <p:spPr>
            <a:xfrm>
              <a:off x="9159840" y="3033720"/>
              <a:ext cx="3124080" cy="51768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50MG/KG DNEVNO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AutoShape 58"/>
            <p:cNvSpPr/>
            <p:nvPr/>
          </p:nvSpPr>
          <p:spPr>
            <a:xfrm>
              <a:off x="9159840" y="3719520"/>
              <a:ext cx="3124080" cy="51768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30MG/KG NA 8 SATI 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 spd="med">
    <p:comb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NEKROTIZIRAJUĆI PARODONTIT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006560" y="1916280"/>
            <a:ext cx="472428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U slučaju da se i nakon tretmana jave znaci opšte slabosti organizma i groznice, treba razmotriti sistemsku primenu antibiotika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8"/>
          <p:cNvSpPr/>
          <p:nvPr/>
        </p:nvSpPr>
        <p:spPr>
          <a:xfrm>
            <a:off x="9236160" y="2576520"/>
            <a:ext cx="3124080" cy="517680"/>
          </a:xfrm>
          <a:prstGeom prst="roundRect">
            <a:avLst>
              <a:gd name="adj" fmla="val 50000"/>
            </a:avLst>
          </a:prstGeom>
          <a:solidFill>
            <a:srgbClr val="2e98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AMOKSICILIN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58"/>
          <p:cNvSpPr/>
          <p:nvPr/>
        </p:nvSpPr>
        <p:spPr>
          <a:xfrm>
            <a:off x="4206960" y="5472000"/>
            <a:ext cx="3124080" cy="517680"/>
          </a:xfrm>
          <a:prstGeom prst="roundRect">
            <a:avLst>
              <a:gd name="adj" fmla="val 50000"/>
            </a:avLst>
          </a:prstGeom>
          <a:solidFill>
            <a:srgbClr val="f45e4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METRONIDAZOL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ERIKORONIT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2" name="Group 1"/>
          <p:cNvGrpSpPr/>
          <p:nvPr/>
        </p:nvGrpSpPr>
        <p:grpSpPr>
          <a:xfrm>
            <a:off x="776160" y="2576520"/>
            <a:ext cx="11277720" cy="838080"/>
            <a:chOff x="776160" y="2576520"/>
            <a:chExt cx="11277720" cy="838080"/>
          </a:xfrm>
        </p:grpSpPr>
        <p:sp>
          <p:nvSpPr>
            <p:cNvPr id="133" name="AutoShape 58"/>
            <p:cNvSpPr/>
            <p:nvPr/>
          </p:nvSpPr>
          <p:spPr>
            <a:xfrm>
              <a:off x="4816440" y="2585880"/>
              <a:ext cx="3732120" cy="82224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OD 3 MESECA &lt; 40KG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20-40MG/KG NA 8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AutoShape 58"/>
            <p:cNvSpPr/>
            <p:nvPr/>
          </p:nvSpPr>
          <p:spPr>
            <a:xfrm>
              <a:off x="1768320" y="2576520"/>
              <a:ext cx="2895480" cy="83808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AMOXICIL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i="1" lang="sr-Latn-RS" sz="1700" spc="-1" strike="noStrike">
                  <a:solidFill>
                    <a:srgbClr val="000000"/>
                  </a:solidFill>
                  <a:latin typeface="Trebuchet MS"/>
                </a:rPr>
                <a:t>3 DAN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AutoShape 58"/>
            <p:cNvSpPr/>
            <p:nvPr/>
          </p:nvSpPr>
          <p:spPr>
            <a:xfrm>
              <a:off x="8701200" y="2587320"/>
              <a:ext cx="3352680" cy="8222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&gt; 40KG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250-500MG NA 8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36" name="Picture 7" descr=""/>
            <p:cNvPicPr/>
            <p:nvPr/>
          </p:nvPicPr>
          <p:blipFill>
            <a:blip r:embed="rId1"/>
            <a:stretch/>
          </p:blipFill>
          <p:spPr>
            <a:xfrm>
              <a:off x="776160" y="257652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"/>
          <p:cNvGrpSpPr/>
          <p:nvPr/>
        </p:nvGrpSpPr>
        <p:grpSpPr>
          <a:xfrm>
            <a:off x="776160" y="3632040"/>
            <a:ext cx="11277720" cy="838440"/>
            <a:chOff x="776160" y="3632040"/>
            <a:chExt cx="11277720" cy="838440"/>
          </a:xfrm>
        </p:grpSpPr>
        <p:sp>
          <p:nvSpPr>
            <p:cNvPr id="138" name="AutoShape 58"/>
            <p:cNvSpPr/>
            <p:nvPr/>
          </p:nvSpPr>
          <p:spPr>
            <a:xfrm>
              <a:off x="4816440" y="3642840"/>
              <a:ext cx="3732120" cy="82260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DEC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30MG/KG NA 6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AutoShape 58"/>
            <p:cNvSpPr/>
            <p:nvPr/>
          </p:nvSpPr>
          <p:spPr>
            <a:xfrm>
              <a:off x="1768320" y="3632040"/>
              <a:ext cx="2895480" cy="83844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METRONIDAZOL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i="1" lang="sr-Latn-RS" sz="1700" spc="-1" strike="noStrike">
                  <a:solidFill>
                    <a:srgbClr val="000000"/>
                  </a:solidFill>
                  <a:latin typeface="Trebuchet MS"/>
                </a:rPr>
                <a:t>3 DAN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AutoShape 58"/>
            <p:cNvSpPr/>
            <p:nvPr/>
          </p:nvSpPr>
          <p:spPr>
            <a:xfrm>
              <a:off x="8701200" y="3642840"/>
              <a:ext cx="3352680" cy="82260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ADOLESCEN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250MG na 6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41" name="Picture 11" descr=""/>
            <p:cNvPicPr/>
            <p:nvPr/>
          </p:nvPicPr>
          <p:blipFill>
            <a:blip r:embed="rId2"/>
            <a:stretch/>
          </p:blipFill>
          <p:spPr>
            <a:xfrm>
              <a:off x="776160" y="3632040"/>
              <a:ext cx="761760" cy="76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OFILAKSA ENDOKARDITIS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006560" y="1662120"/>
            <a:ext cx="10134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Vađenje zub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arodontalna hirurg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mplantacija, reimplantacija zub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Endodontska instrumentac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ostavljanje retrakcijskog kon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gradnja ortodontskih prsteno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ntraligamentarna anestez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ofilaktičko čišćenje zuba i implant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OFILAKSA ENDOKARDITIS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776160" y="2260440"/>
            <a:ext cx="11277720" cy="838440"/>
            <a:chOff x="776160" y="2260440"/>
            <a:chExt cx="11277720" cy="838440"/>
          </a:xfrm>
        </p:grpSpPr>
        <p:sp>
          <p:nvSpPr>
            <p:cNvPr id="146" name="AutoShape 58"/>
            <p:cNvSpPr/>
            <p:nvPr/>
          </p:nvSpPr>
          <p:spPr>
            <a:xfrm>
              <a:off x="4816440" y="2269800"/>
              <a:ext cx="3732120" cy="82260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pt-BR" sz="1700" spc="-1" strike="noStrike">
                  <a:solidFill>
                    <a:srgbClr val="000000"/>
                  </a:solidFill>
                  <a:latin typeface="Trebuchet MS"/>
                </a:rPr>
                <a:t>50 MG/KG 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AutoShape 58"/>
            <p:cNvSpPr/>
            <p:nvPr/>
          </p:nvSpPr>
          <p:spPr>
            <a:xfrm>
              <a:off x="1768320" y="2260440"/>
              <a:ext cx="2895480" cy="83844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AMOXICIL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AutoShape 58"/>
            <p:cNvSpPr/>
            <p:nvPr/>
          </p:nvSpPr>
          <p:spPr>
            <a:xfrm>
              <a:off x="8701200" y="2271240"/>
              <a:ext cx="3352680" cy="82260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pt-BR" sz="1700" spc="-1" strike="noStrike">
                  <a:solidFill>
                    <a:srgbClr val="000000"/>
                  </a:solidFill>
                  <a:latin typeface="Trebuchet MS"/>
                </a:rPr>
                <a:t>1 </a:t>
              </a: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SAT</a:t>
              </a:r>
              <a:r>
                <a:rPr b="1" lang="pt-BR" sz="1700" spc="-1" strike="noStrike">
                  <a:solidFill>
                    <a:srgbClr val="000000"/>
                  </a:solidFill>
                  <a:latin typeface="Trebuchet MS"/>
                </a:rPr>
                <a:t> PR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49" name="Picture 7" descr=""/>
            <p:cNvPicPr/>
            <p:nvPr/>
          </p:nvPicPr>
          <p:blipFill>
            <a:blip r:embed="rId1"/>
            <a:stretch/>
          </p:blipFill>
          <p:spPr>
            <a:xfrm>
              <a:off x="776160" y="2260440"/>
              <a:ext cx="761760" cy="76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2"/>
          <p:cNvGrpSpPr/>
          <p:nvPr/>
        </p:nvGrpSpPr>
        <p:grpSpPr>
          <a:xfrm>
            <a:off x="473040" y="3327480"/>
            <a:ext cx="11580840" cy="838080"/>
            <a:chOff x="473040" y="3327480"/>
            <a:chExt cx="11580840" cy="838080"/>
          </a:xfrm>
        </p:grpSpPr>
        <p:sp>
          <p:nvSpPr>
            <p:cNvPr id="151" name="AutoShape 58"/>
            <p:cNvSpPr/>
            <p:nvPr/>
          </p:nvSpPr>
          <p:spPr>
            <a:xfrm>
              <a:off x="4816440" y="3336840"/>
              <a:ext cx="3732120" cy="82224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Trebuchet MS"/>
                </a:rPr>
                <a:t>50 MG/KG I.M.</a:t>
              </a: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 ILI </a:t>
              </a:r>
              <a:r>
                <a:rPr b="1" lang="it-IT" sz="1700" spc="-1" strike="noStrike">
                  <a:solidFill>
                    <a:srgbClr val="000000"/>
                  </a:solidFill>
                  <a:latin typeface="Trebuchet MS"/>
                </a:rPr>
                <a:t>I.V.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Trebuchet MS"/>
                </a:rPr>
                <a:t>MAX. 2 GR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AutoShape 58"/>
            <p:cNvSpPr/>
            <p:nvPr/>
          </p:nvSpPr>
          <p:spPr>
            <a:xfrm>
              <a:off x="1768320" y="3327480"/>
              <a:ext cx="2895480" cy="83808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AMPICIL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" name="AutoShape 58"/>
            <p:cNvSpPr/>
            <p:nvPr/>
          </p:nvSpPr>
          <p:spPr>
            <a:xfrm>
              <a:off x="8701200" y="3338280"/>
              <a:ext cx="3352680" cy="8222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30 MINUTA PRE 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54" name="Picture 2" descr=""/>
            <p:cNvPicPr/>
            <p:nvPr/>
          </p:nvPicPr>
          <p:blipFill>
            <a:blip r:embed="rId2"/>
            <a:stretch/>
          </p:blipFill>
          <p:spPr>
            <a:xfrm>
              <a:off x="473040" y="34146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" descr=""/>
            <p:cNvPicPr/>
            <p:nvPr/>
          </p:nvPicPr>
          <p:blipFill>
            <a:blip r:embed="rId3"/>
            <a:stretch/>
          </p:blipFill>
          <p:spPr>
            <a:xfrm>
              <a:off x="1082520" y="341460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3"/>
          <p:cNvGrpSpPr/>
          <p:nvPr/>
        </p:nvGrpSpPr>
        <p:grpSpPr>
          <a:xfrm>
            <a:off x="777960" y="4405320"/>
            <a:ext cx="11275920" cy="838080"/>
            <a:chOff x="777960" y="4405320"/>
            <a:chExt cx="11275920" cy="838080"/>
          </a:xfrm>
        </p:grpSpPr>
        <p:sp>
          <p:nvSpPr>
            <p:cNvPr id="157" name="AutoShape 58"/>
            <p:cNvSpPr/>
            <p:nvPr/>
          </p:nvSpPr>
          <p:spPr>
            <a:xfrm>
              <a:off x="4816440" y="4414680"/>
              <a:ext cx="3732120" cy="82224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Trebuchet MS"/>
                </a:rPr>
                <a:t>20 MG/KG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Trebuchet MS"/>
                </a:rPr>
                <a:t>MAX. 600 MG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AutoShape 58"/>
            <p:cNvSpPr/>
            <p:nvPr/>
          </p:nvSpPr>
          <p:spPr>
            <a:xfrm>
              <a:off x="1768320" y="4405320"/>
              <a:ext cx="2895480" cy="83808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LINDAMIC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i="1" lang="sr-Latn-RS" sz="1700" spc="-1" strike="noStrike">
                  <a:solidFill>
                    <a:srgbClr val="000000"/>
                  </a:solidFill>
                  <a:latin typeface="Trebuchet MS"/>
                </a:rPr>
                <a:t>CAVE PENICIL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AutoShape 58"/>
            <p:cNvSpPr/>
            <p:nvPr/>
          </p:nvSpPr>
          <p:spPr>
            <a:xfrm>
              <a:off x="8701200" y="4414680"/>
              <a:ext cx="3352680" cy="8222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1 SAT PRE 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60" name="Picture 7" descr=""/>
            <p:cNvPicPr/>
            <p:nvPr/>
          </p:nvPicPr>
          <p:blipFill>
            <a:blip r:embed="rId4"/>
            <a:stretch/>
          </p:blipFill>
          <p:spPr>
            <a:xfrm>
              <a:off x="777960" y="440532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NEADEKVATAN IMUNOLOŠKI ODGOVOR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1006560" y="1890720"/>
            <a:ext cx="54864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Određuje se na individualnoj osnovi, u cilju što bolje procene imunološkog statusa bolesnika, rizika od planiranog stomatološkog postupka, izbora antibiotika i trajanja antibiotske terapije, prilikom čega su obavezne konsultacije sa izabranim lekarom (specijalistom)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-822240" y="474840"/>
            <a:ext cx="12737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URGENTNA STANJA TOKOM INTERVENC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006560" y="2043000"/>
            <a:ext cx="59436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Anafilaktički šok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Sinkop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Alergijske reakcij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Akutni astmatični napad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Opstrukcija respiratornih putev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Epileptični napad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Dijabetička hipoglikemij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082520" y="474840"/>
            <a:ext cx="10868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TIPOVI ANTIMIKROBNE TERAP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53920" y="1967040"/>
            <a:ext cx="60962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Empirijska terapij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Ciljana terapij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Profilaktička primena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NTIŠOK TERAP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58"/>
          <p:cNvSpPr/>
          <p:nvPr/>
        </p:nvSpPr>
        <p:spPr>
          <a:xfrm>
            <a:off x="1158840" y="2271600"/>
            <a:ext cx="5562720" cy="46836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POSTAVITI PACIJENTA U LEŽEĆI POLOŽAJ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58"/>
          <p:cNvSpPr/>
          <p:nvPr/>
        </p:nvSpPr>
        <p:spPr>
          <a:xfrm>
            <a:off x="1158840" y="2892600"/>
            <a:ext cx="5562720" cy="46656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OTVORITI PROZORE / APARAT ZA KISEONIK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58"/>
          <p:cNvSpPr/>
          <p:nvPr/>
        </p:nvSpPr>
        <p:spPr>
          <a:xfrm>
            <a:off x="1158840" y="3502080"/>
            <a:ext cx="5562720" cy="466560"/>
          </a:xfrm>
          <a:prstGeom prst="roundRect">
            <a:avLst>
              <a:gd name="adj" fmla="val 50000"/>
            </a:avLst>
          </a:prstGeom>
          <a:solidFill>
            <a:srgbClr val="f9a12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ADRENALIN 0.01 MG/KG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58"/>
          <p:cNvSpPr/>
          <p:nvPr/>
        </p:nvSpPr>
        <p:spPr>
          <a:xfrm>
            <a:off x="1158840" y="4111560"/>
            <a:ext cx="5562720" cy="466920"/>
          </a:xfrm>
          <a:prstGeom prst="roundRect">
            <a:avLst>
              <a:gd name="adj" fmla="val 50000"/>
            </a:avLst>
          </a:prstGeom>
          <a:solidFill>
            <a:srgbClr val="f9a12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250 MG KORTIKOSTEROIDA / URBAZON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8"/>
          <p:cNvSpPr/>
          <p:nvPr/>
        </p:nvSpPr>
        <p:spPr>
          <a:xfrm>
            <a:off x="1158840" y="4721400"/>
            <a:ext cx="5562720" cy="466560"/>
          </a:xfrm>
          <a:prstGeom prst="roundRect">
            <a:avLst>
              <a:gd name="adj" fmla="val 50000"/>
            </a:avLst>
          </a:prstGeom>
          <a:solidFill>
            <a:srgbClr val="f9a12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ANTIHISTAMINIK / FENERGAN, SINOPEN 20-40 MG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58"/>
          <p:cNvSpPr/>
          <p:nvPr/>
        </p:nvSpPr>
        <p:spPr>
          <a:xfrm>
            <a:off x="1158840" y="5330880"/>
            <a:ext cx="5562720" cy="466560"/>
          </a:xfrm>
          <a:prstGeom prst="roundRect">
            <a:avLst>
              <a:gd name="adj" fmla="val 50000"/>
            </a:avLst>
          </a:prstGeom>
          <a:solidFill>
            <a:srgbClr val="f45e4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POZVATI HITNU POMOĆ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LOKALNE ALERGIJSKE REAKC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1006560" y="1967040"/>
            <a:ext cx="693396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Terapija se sastoji od tri glavna i ključna postupka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prekidanje interven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uklanjanje uzročni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davanje antihistamini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KUTNI ASTMATIČNI NAPAD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006560" y="1967040"/>
            <a:ext cx="685800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Akutni astmatični napad karakteriše otežano disanje, dete je preplašeno, bori se za vazduh, uznemireno, javlja se ekspiratorna dispneja i moguća je pojava cijanoze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Pacijenta treba postaviti u polusedeći položaj i odmah dati adrenalin, antihistaminik i bronhospazmolitike (Ventolin 0.1 mg/kg)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SINKOP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082520" y="1738440"/>
            <a:ext cx="685800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Zbog gubitka svesti pacijent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sklizne u stoli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bled 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koža mu je bleda i vlažna, hlad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zenice su dilatira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očni bulbusi okrenuti na go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HISTERIČNI NAPAD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006560" y="1814400"/>
            <a:ext cx="6705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Pacijent klizi niz stolicu i tek kada se nađe na sigurnom postaje nemiran, izvija se u luku, boja lica je ružičasta, kapci podrhtavaju, zenice nisu proširene i reagiraju na svetlost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Potrebno je paziti da prilikom histeričnog napada ne dođe do akcidentne povrede predmetima koje se nalaze u blizini pa je potrebno instrumente i stomatološke aparate  skloniti od detet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EPILEPTIČNI NAPAD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1006560" y="1738440"/>
            <a:ext cx="1051560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fffff"/>
                </a:solidFill>
                <a:latin typeface="Trebuchet MS"/>
              </a:rPr>
              <a:t>Petit mal </a:t>
            </a: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se javlja u osoba mlađih od dvadeset godina, napadi traju do trideset sekundi uz manje motorne pokrete bulbusa, glave i ekstremiteta, gubi se veza s okolinom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fffff"/>
                </a:solidFill>
                <a:latin typeface="Trebuchet MS"/>
              </a:rPr>
              <a:t>Grand mal </a:t>
            </a: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karakterišu toničko-kloničke konvulzije, gubitak svesti, penušanje pljuvačke, inkontinencija i cijanoza. Ukoliko pacijent predoseti napad ili ukoliko napad otpočne, pacijenta treba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postaviti na pod u ležećem položaju licem prema pod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osloboditi ga tesne odeć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pobrinuti se za prohodnost disajnih putev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HIPOGLIKEM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1006560" y="2043000"/>
            <a:ext cx="64008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Hipoglikemija se najčešće događa kod dijabetičara (inzulinski šok) kao posledica predoziranja inzulinom ili preskakanjem obrok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Slično stanje može kod zdrave dece izazvati strah ukoliko nisu imala obrok pre dolaska stomatologu jer povećano lučenje adrenalina takođe može izazvati hipoglikemiju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OPSTRUKCIJA RESPIRATORNIH PUTEV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930240" y="1738440"/>
            <a:ext cx="1082052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Terapija se sastoji u oslobađanju disajnih puteva sukcijom, a ukoliko je opstrukcija i dalje prisutna, snažnim udarcima šakom po leđima, između lopatica, uz pridržavanje grudnog koša drugom rukom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Drugi način je da se pacijent obuhvati rukama preko grudnog koša i stezanjem izazove naglo izbacivanje vazduha i stranog tel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Manju decu je moguće naglim okretanjem naopako, glavom nadole, i energičnim tapšanjem po leđima osloboditi prisustva stranog sadržaja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U težim slučajevima neophodno je pacijenta odmah uputiti u odgovarajući zdravstvenu ustanovu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1628640" y="671400"/>
            <a:ext cx="10287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URGENTNA STANJA ZBOG KOJIH SE PACIJENT JAVL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006560" y="2119320"/>
            <a:ext cx="107442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Odontogene infekcij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Simptom hitnog stanja - orofacijalni bol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Traumatske povrede zub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2500" spc="-1" strike="noStrike">
                <a:solidFill>
                  <a:srgbClr val="f9a12a"/>
                </a:solidFill>
                <a:latin typeface="Trebuchet MS"/>
              </a:rPr>
              <a:t>Urgentna stanja na mekim tkivim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fffff"/>
                </a:solidFill>
                <a:latin typeface="Trebuchet MS"/>
              </a:rPr>
              <a:t>Akutni nekrotizirajući ulcerozni gingivitis (ANUG)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fffff"/>
                </a:solidFill>
                <a:latin typeface="Trebuchet MS"/>
              </a:rPr>
              <a:t>Akutni herpetični gingivostomatiti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IMENA ANTIBIOTIKA KOD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44440" y="1890720"/>
            <a:ext cx="6858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Dva najčešća razloga primene antibiotika su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581120" indent="-395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Profilaksa bakterijskog endokarditi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581120" indent="-395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Lečenje odontogene infekcije kada lokalna terapija nije delotvor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KONTRAINDIKAC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776840" y="1509840"/>
            <a:ext cx="697392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lvl="1" marL="887400" indent="-34272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isutnost malog i hroničnog apscesa kod zdravog de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eriapikalni proces stalnog zuba kod zdravog de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isutnost vrlo dobro lokaliziranog vestibularnog apscesa, s malim otokom lica ili bez njeg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Akutni primarni herpetični gingivostomatitis ne sme se lečiti antibioticima, osim ako postoje dokazi koji upućuju na prisutnost sekundarne bakterijske infekcij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KUTNE ODONTOGENE INFEKC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892760" y="1814400"/>
            <a:ext cx="7010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624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600" spc="-1" strike="noStrike">
                <a:solidFill>
                  <a:srgbClr val="f9a12a"/>
                </a:solidFill>
                <a:latin typeface="Trebuchet MS"/>
              </a:rPr>
              <a:t>Nagla pojava simptoma i otoka (unutar 24 do 72 sata) ukazuje na moguće širenje infekcije i potrebu za antibioticim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624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600" spc="-1" strike="noStrike">
                <a:solidFill>
                  <a:srgbClr val="f9a12a"/>
                </a:solidFill>
                <a:latin typeface="Trebuchet MS"/>
              </a:rPr>
              <a:t>Početak  infekcije unutar 5 dana ili duže može kontrolisati bez antibiotik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624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600" spc="-1" strike="noStrike">
                <a:solidFill>
                  <a:srgbClr val="f9a12a"/>
                </a:solidFill>
                <a:latin typeface="Trebuchet MS"/>
              </a:rPr>
              <a:t>Prednost se daje baktericidnim lekovima koji se ne bi smeli primenjivati s bakteriostatskim zbog poništavanja dejstv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624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KUTNI GNOJNI SIJALOADENITIS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1006560" y="1662120"/>
            <a:ext cx="111250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Bakterijska infekcija pljuvačnih žlezda, te su najčešći uzročnici ove infekcije Staphylococcus aureus, Staphylococcus pyogenes a ređe streptokoki, pneumokoki i drugi mikroorganizmi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ŠARLAH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1006560" y="1433520"/>
            <a:ext cx="107442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Šarlah (Scarlatina) je urokovana beta hemolitičkim streptokokom iz grupe A, te predstavlja akutnu infektivnu bolest. Javlja se kod dece školske i predškolske dobi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IMPETIGO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006560" y="1433520"/>
            <a:ext cx="106678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Impetigo contagiosa može započeti bulama ispunjenim tečnošću ili nastankom većih vezikula koje su ograničene crvenim područjem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OSTEOMIJELIT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006560" y="1839960"/>
            <a:ext cx="107442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Osim hirurškog uklanjanja koštanih sekvestara primenjuje se agresivna antibiotska terapij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2" name="Group 1"/>
          <p:cNvGrpSpPr/>
          <p:nvPr/>
        </p:nvGrpSpPr>
        <p:grpSpPr>
          <a:xfrm>
            <a:off x="776160" y="3338640"/>
            <a:ext cx="11277720" cy="838080"/>
            <a:chOff x="776160" y="3338640"/>
            <a:chExt cx="11277720" cy="838080"/>
          </a:xfrm>
        </p:grpSpPr>
        <p:sp>
          <p:nvSpPr>
            <p:cNvPr id="73" name="AutoShape 58"/>
            <p:cNvSpPr/>
            <p:nvPr/>
          </p:nvSpPr>
          <p:spPr>
            <a:xfrm>
              <a:off x="5195880" y="3348000"/>
              <a:ext cx="3352680" cy="82224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PER OS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3-6 MG/KG NA 6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AutoShape 58"/>
            <p:cNvSpPr/>
            <p:nvPr/>
          </p:nvSpPr>
          <p:spPr>
            <a:xfrm>
              <a:off x="1766520" y="3338640"/>
              <a:ext cx="3230640" cy="83808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KLINDAMICIN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ZA G+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AutoShape 58"/>
            <p:cNvSpPr/>
            <p:nvPr/>
          </p:nvSpPr>
          <p:spPr>
            <a:xfrm>
              <a:off x="8701200" y="3349440"/>
              <a:ext cx="3352680" cy="8222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PARENTERALNO &gt;1 MESEC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15-40 MG/KG NA 6-8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6" name="Picture 15" descr=""/>
            <p:cNvPicPr/>
            <p:nvPr/>
          </p:nvPicPr>
          <p:blipFill>
            <a:blip r:embed="rId1"/>
            <a:stretch/>
          </p:blipFill>
          <p:spPr>
            <a:xfrm>
              <a:off x="776160" y="341460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2"/>
          <p:cNvGrpSpPr/>
          <p:nvPr/>
        </p:nvGrpSpPr>
        <p:grpSpPr>
          <a:xfrm>
            <a:off x="701640" y="4313160"/>
            <a:ext cx="11353680" cy="854280"/>
            <a:chOff x="701640" y="4313160"/>
            <a:chExt cx="11353680" cy="854280"/>
          </a:xfrm>
        </p:grpSpPr>
        <p:sp>
          <p:nvSpPr>
            <p:cNvPr id="78" name="AutoShape 58"/>
            <p:cNvSpPr/>
            <p:nvPr/>
          </p:nvSpPr>
          <p:spPr>
            <a:xfrm>
              <a:off x="5197320" y="4329000"/>
              <a:ext cx="3352680" cy="82260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IV OD 5-17 GODINA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10 MG/KG NA 8 SATI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>
              <a:off x="1766520" y="4313160"/>
              <a:ext cx="3230280" cy="85428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CIPROFLOKSACIN 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ZA G-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AutoShape 58"/>
            <p:cNvSpPr/>
            <p:nvPr/>
          </p:nvSpPr>
          <p:spPr>
            <a:xfrm>
              <a:off x="8702640" y="4329000"/>
              <a:ext cx="3352680" cy="82260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1700" spc="-1" strike="noStrike">
                  <a:solidFill>
                    <a:srgbClr val="000000"/>
                  </a:solidFill>
                  <a:latin typeface="Trebuchet MS"/>
                </a:rPr>
                <a:t>MAKS DOZA 1200 MG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81" name="Picture 2" descr=""/>
            <p:cNvPicPr/>
            <p:nvPr/>
          </p:nvPicPr>
          <p:blipFill>
            <a:blip r:embed="rId2"/>
            <a:stretch/>
          </p:blipFill>
          <p:spPr>
            <a:xfrm>
              <a:off x="701640" y="432900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04:12Z</dcterms:modified>
  <cp:revision>1423</cp:revision>
  <dc:subject/>
  <dc:title>RTG U DEČJOJ STOMATOLOGIJI</dc:title>
</cp:coreProperties>
</file>